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2FA-C583-4FE3-9177-30FB0053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A50-ABF0-410B-A049-0E479D6D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A14-6348-4888-9849-D990DA22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EE9-CAAD-4B02-914F-E65F642F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47C-9102-4EEB-9DA0-AAD859D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23E-85BF-473A-A4DF-2325F2DA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979-D591-4417-82DA-E2B7A902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F22-5DC5-49EE-89E8-AC4B2DF4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78C-F0F5-4C78-BAB0-BA51BA0E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5EF-DFA5-4B11-9C23-43D14205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DC0-90C6-45ED-8176-0869A52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233-2181-48B3-A227-DB5FC75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C22F-4682-458A-BD41-71EBC1F0A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scowtopnews.com/image/article/7/0/4/1704.jpe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,and Kevin D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bout land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343400" y="5029200"/>
            <a:ext cx="343836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 rot="20551800">
            <a:off x="152280" y="228240"/>
            <a:ext cx="1676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3:43:40Z</dcterms:created>
  <dc:creator> </dc:creator>
  <dc:description/>
  <dc:language>en-US</dc:language>
  <cp:lastModifiedBy> </cp:lastModifiedBy>
  <dcterms:modified xsi:type="dcterms:W3CDTF">2010-12-15T00:17:51Z</dcterms:modified>
  <cp:revision>2</cp:revision>
  <dc:subject/>
  <dc:title>LAND IN RUSSIA</dc:title>
</cp:coreProperties>
</file>